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a:t>
            </a:r>
            <a:r>
              <a:rPr b="0" lang="sr-RS" sz="2800" spc="-1" strike="noStrike">
                <a:solidFill>
                  <a:srgbClr val="000000"/>
                </a:solidFill>
                <a:latin typeface="Arial"/>
              </a:rPr>
              <a:t>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Structure and Function</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is essential to a person’s survival. It forms a barrier that helps prevent harmful microorganisms and chemicals from entering the body and it also prevents the loss of life-sustaining body fluids. It protects the vital structures-inside the body-from injury and from potentially damaging ultraviolet rays of the sun. the skin also helps regulate body temperature, excretes some waste products and is an important sensory organ. It contains various types of specialized nerve cells responsible for the sense of touc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is the body’s largest organ- that of an average adult male weighs 4,5 to 5 kg and measures about 2 sq. m in area.</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l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utane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s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loere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sk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it made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epidermis and the derm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be found below the derm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keratinocytes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ells produce melan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Langerhans cells so 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ynthesizes the production of vitamin D in the sk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piloer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whether the following statements are true or fal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prevents harmful organisms from entering the body.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kin is not the body’s largest organ.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pidermis is a protective layer of the skin.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ement membrane connects the epidermis and the dermi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cutaneous layer is situated below the epidermi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cytes make about 90 percent of the cells in the epidermis. T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in gives colour to the skin and protects it from the sun’s ultraviolet ray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kin colour result from differences in the number of melanocyte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erhans cells help cells of the immune system recognize potentially dangerous microorganisms and chemicals.                T  F</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mean:</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from doing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pecial quality that belongs to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es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fferently colored part of a surfa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nouns to the following adjectiv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l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fu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ug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c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definition and function of:</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m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ment membra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atinocy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nocy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kel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goster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Осећаје топлоте, хладноће, притиска и бола препознају специјални нервни завршеци који се налазе по целом телу. Они су смештени у кожи. Кожа се састоји од два слоја - спољашњег слоја или епидерма и унутрашњег, тј. дерма. Ови слојеви су састављени од ћелија. Ћелије епидерма су округле и мекане унутра, а равне и тврде споља. Дерм се састоји од испреплетаних ћелија везивног ткива. Сићушне квржице у дерму се називају папиле. У папилама се налазе завршеци нерава и ситних крвних судова. Ови нерви реагују на промене у температури и различите промене притиска. У кожи се такође налазе знојне и лојне жлезде. Лојне жлезде луче супстанцу која помаже да кожа изгледа мекано и еластично. У епидерму се налазе пигментне грануле браонкасте или црвенкасто-жуте боје и оне су одговорне за боју кож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7T16:32:18Z</dcterms:modified>
  <cp:revision>12</cp:revision>
  <dc:subject/>
  <dc:title>Slide 1</dc:title>
</cp:coreProperties>
</file>